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63323"/>
        <c:axId val="29731754"/>
      </c:barChart>
      <c:catAx>
        <c:axId val="17963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31754"/>
        <c:crosses val="autoZero"/>
        <c:auto val="1"/>
        <c:lblAlgn val="ctr"/>
        <c:lblOffset val="100"/>
        <c:noMultiLvlLbl val="0"/>
      </c:catAx>
      <c:valAx>
        <c:axId val="29731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63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414-1E8A-4B85-9A4C-B23F0AED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B74-24F3-44E5-A1D8-EA631D12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090-4401-46A0-A0EB-1C437FE0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D81-EB3B-4066-BFFE-228ADA5C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70A-7829-43B6-B63E-68E8C5D0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5F8-BA5C-48EB-BBCF-580A1C2C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5DC-73FD-4FA3-A5E1-B9EF4C9F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385-2A78-45DE-A6D1-0CE22A2C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0BA-BB05-4F69-86BB-02A851D0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4DD-78CC-43FA-919E-6E597BB0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997-FF86-46F2-B6B3-7255BF89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312-65EF-490C-87B0-AE17F92B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268D3-27B0-4B84-A2A8-7EEAA1A5BC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