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089494"/>
        <c:axId val="47111406"/>
      </c:barChart>
      <c:catAx>
        <c:axId val="570894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111406"/>
        <c:crosses val="autoZero"/>
        <c:auto val="1"/>
        <c:lblAlgn val="ctr"/>
        <c:lblOffset val="100"/>
        <c:noMultiLvlLbl val="0"/>
      </c:catAx>
      <c:valAx>
        <c:axId val="471114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0894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C964-7DBB-4D44-92C8-FBEB7DB29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F30E-0090-460E-ABA6-0B13ADF64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3ACF-7AD3-4C27-B53E-D596F4290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7726-7B16-42E4-A445-611827900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A67C-B097-4A28-BBA5-A57727A28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44D7-7618-4E92-AF14-452826D37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5B1A-1813-41C8-BC93-4529DDC7D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2868-5F16-45F7-947C-B4DE49B7A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039E-A3E2-43B9-B2A7-870ADF42D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37D6-0577-4592-869B-7052AEFF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A508-9FAD-4E92-8571-84A1B079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8EA3-D03C-41C6-8B5E-5A0904FE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CF320E-BB7A-4CA1-BBE2-AAF8047A936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