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9717"/>
        <c:axId val="713045"/>
      </c:barChart>
      <c:catAx>
        <c:axId val="4839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045"/>
        <c:crosses val="autoZero"/>
        <c:auto val="1"/>
        <c:lblAlgn val="ctr"/>
        <c:lblOffset val="100"/>
        <c:noMultiLvlLbl val="0"/>
      </c:catAx>
      <c:valAx>
        <c:axId val="713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9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EA4-5C6B-4995-A89F-CE2BF727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E39-3725-454E-99D6-4B18A1A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0B5-023C-4642-BBF4-8ACA65BA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204-DF7B-43B3-9026-928B7DA1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16E-5D32-4283-A591-58595985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B57-0DF2-45FB-A8C6-1DA29942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97D-23BA-4A88-BA18-09846786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829-099A-4C03-BBD9-F0976089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C7F-8166-488C-899C-92A1606E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FF9-7CAB-4AEC-B6CD-9F3B892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9DF-0084-4393-B17D-146EB2BE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62F-AD99-4ABB-ADF3-0A4C4DCE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ACF6D-55DD-4D89-B40B-E33D8ADE1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